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849-7B80-4D39-8093-060B36FF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0F8-9FDF-4DA8-A649-CEDEB9C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A04-8029-4FCF-B367-D65ABADB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E10-C021-41D4-851D-BB80DC93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7F0-3D72-4B2E-B6C6-AEEA8BAD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0AA-F2BB-43CF-98EF-3E389AD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CF4-BEC6-4F21-AE71-7B1E3E2C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E40-647A-431C-B8EA-21367F0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41A-BFF1-4413-BB9E-F8A5CD70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E25-5ACE-42AF-924B-1FCD1C1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550-A0CE-43D2-A646-5731CF8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3DB-9981-456D-9DF5-E5A168D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C992-CEFB-4682-A294-502DD4CDDE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656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07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807696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4191120"/>
            <a:ext cx="46483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8076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53341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807732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4952880"/>
            <a:ext cx="807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07732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807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72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8077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31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857760"/>
            <a:ext cx="754380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38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9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86600" y="563868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15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543800" cy="99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10280" y="41911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55Z</dcterms:modified>
  <cp:revision>213</cp:revision>
  <dc:subject/>
  <dc:title>Slide 1</dc:title>
</cp:coreProperties>
</file>